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0FE-1B55-4153-A7BB-DD5FFFFF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C20-A8CE-42AA-9553-15D08977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D97-BBF1-4933-9142-67B01E5A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639-367D-4399-B960-A0BB9D0F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FD4-48EC-4AA3-A0FB-251BDC5A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577-8177-4363-8B4D-55E950C4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035-476F-422A-9FDC-D1E4F197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DE0-EF36-429A-A373-6375645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601-269B-41A4-AEA7-9E43AFC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553-6521-42A3-8E9B-2744C89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E8B-88A0-404C-8E52-2603BAE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53C-5698-45A7-B08F-7AF904E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4D20-AF72-490E-BB3F-3CDAB5D2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logger-templates.blogspot.com/2005/01/remove-navbar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Removing the NavB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logger.com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croll down in the HTML Code underneath the style code – place your cursor here and make a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00200" y="4572000"/>
            <a:ext cx="419112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Paste the HTML code from the website here.</a:t>
            </a:r>
            <a:br>
              <a:rPr sz="2800"/>
            </a:b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AVE TEMPL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148608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4648320"/>
            <a:ext cx="5410080" cy="4572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5486400"/>
            <a:ext cx="2514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Hit VIEW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29200" y="990720"/>
            <a:ext cx="838080" cy="2209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33920" y="990720"/>
            <a:ext cx="2133360" cy="1752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Voila!  NavBar is G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To Add New Posts…you will have to log in through Blogger.com to the Dashboa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Nav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2209680"/>
            <a:ext cx="7391520" cy="457200"/>
          </a:xfrm>
          <a:prstGeom prst="rect">
            <a:avLst/>
          </a:prstGeom>
          <a:noFill/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Nav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“NEXT BLOG” link is of concern to educa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nk to a random blog – possibly not school appropri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Go to  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ger-templates.blogspot.com/2005/01/remove-navbar.htm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opy and Paste the text in 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4495680"/>
            <a:ext cx="2743200" cy="1219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Login at Blogg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743200"/>
            <a:ext cx="243828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hoose “Layout” in the Dashboard for the B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67080" y="4343400"/>
            <a:ext cx="76212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3525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hoose Edit HTML in the template t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895480"/>
            <a:ext cx="76176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hoose Edit HTML in the template t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819520"/>
            <a:ext cx="76212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1:00:01Z</dcterms:created>
  <dc:creator>jeff.whipple</dc:creator>
  <dc:description/>
  <dc:language>en-US</dc:language>
  <cp:lastModifiedBy>jeff.whipple</cp:lastModifiedBy>
  <dcterms:modified xsi:type="dcterms:W3CDTF">2007-04-02T21:50:34Z</dcterms:modified>
  <cp:revision>1</cp:revision>
  <dc:subject/>
  <dc:title>Removing the NavBar</dc:title>
</cp:coreProperties>
</file>